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2308-C039-49DC-9B9E-ACDC2E08C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1DCF-552C-4F1C-81A5-ECBBD9F1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90CE-4AAF-44AB-97DE-CE71B4894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2BB3-1F2B-40BF-AC1E-3B05E15FB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D9BD-CB14-404E-B993-DDD3AD5E8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E67E-9999-4FCE-9771-39011648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2866-A083-487A-A04D-A0C4F695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6B4D-725F-4E82-9651-F8416DF0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052C-5BB2-4F47-9BF9-48551C6A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AC83-0082-4816-BAFF-BF90B967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BF8C-A2FF-47EE-8D43-B92AF152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4FAA-CCB1-475E-BE96-2117BBA1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12C8-40C0-497F-8D73-88D2CB46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AE86-2F6A-4755-B8E3-0A66E739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B715-EC79-4AA5-BF6B-02265B3E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1668-ABD1-49F9-9B0C-5557C28EE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5B81-C89F-4C22-9635-A332D8390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BE20-514E-4CDB-BE89-E012041C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C6B2-07E1-4672-A3C9-9AA52F0A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11B2-F3E9-4F6A-B57E-CE473EBF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385C-B8A1-477F-B98F-9E8513C2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54F4-F41C-4AEF-86B3-54B3CBC1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963C-93B2-437A-A12F-9D07F939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B1F2-66BF-43F6-8BE1-65905537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1609560"/>
              <a:ext cx="9144000" cy="414360"/>
              <a:chOff x="0" y="1609560"/>
              <a:chExt cx="9144000" cy="41436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1609560"/>
                <a:ext cx="9144000" cy="1033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712880"/>
                <a:ext cx="9144000" cy="10476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17640"/>
                <a:ext cx="9144000" cy="103320"/>
              </a:xfrm>
              <a:prstGeom prst="rect">
                <a:avLst/>
              </a:pr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1920960"/>
                <a:ext cx="9144000" cy="10296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cc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cc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cc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81C3-A81C-4CF6-BC37-A5A301AC0859}" type="slidenum">
              <a:rPr b="0" lang="en-US" sz="1400" spc="-1" strike="noStrike">
                <a:solidFill>
                  <a:srgbClr val="66cc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3200400"/>
              <a:ext cx="9144000" cy="414360"/>
              <a:chOff x="0" y="3200400"/>
              <a:chExt cx="9144000" cy="414360"/>
            </a:xfrm>
          </p:grpSpPr>
          <p:sp>
            <p:nvSpPr>
              <p:cNvPr id="55" name=""/>
              <p:cNvSpPr/>
              <p:nvPr/>
            </p:nvSpPr>
            <p:spPr>
              <a:xfrm>
                <a:off x="0" y="3200400"/>
                <a:ext cx="9144000" cy="1033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303720"/>
                <a:ext cx="9144000" cy="10476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408480"/>
                <a:ext cx="9144000" cy="102960"/>
              </a:xfrm>
              <a:prstGeom prst="rect">
                <a:avLst/>
              </a:pr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11440"/>
                <a:ext cx="9144000" cy="10332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3755-6BED-4697-91AE-C86E6B2B4C7D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66cc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ccff"/>
                </a:solidFill>
                <a:latin typeface="Arial Black"/>
              </a:rPr>
              <a:t>LAB RULES</a:t>
            </a:r>
            <a:endParaRPr b="0" lang="en-US" sz="96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440" y="3504960"/>
            <a:ext cx="75438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 Black"/>
              </a:rPr>
              <a:t>Your life depends on it.</a:t>
            </a:r>
            <a:endParaRPr b="0" lang="en-US" sz="73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ccff"/>
                </a:solidFill>
                <a:latin typeface="Arial Black"/>
              </a:rPr>
              <a:t>Acid burn</a:t>
            </a:r>
            <a:endParaRPr b="0" lang="en-US" sz="9600" spc="-1" strike="noStrike">
              <a:solidFill>
                <a:srgbClr val="66ccff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5800" y="2013120"/>
            <a:ext cx="7404120" cy="46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66ccff"/>
                </a:solidFill>
                <a:latin typeface="Arial Black"/>
              </a:rPr>
              <a:t>Rule # 4 </a:t>
            </a:r>
            <a:endParaRPr b="0" lang="en-US" sz="117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981080"/>
            <a:ext cx="868680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Know location of safety equipment and how to use it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ccff"/>
                </a:solidFill>
                <a:latin typeface="Arial Black"/>
              </a:rPr>
              <a:t>Safety Equipment</a:t>
            </a:r>
            <a:endParaRPr b="0" lang="en-US" sz="6600" spc="-1" strike="noStrike">
              <a:solidFill>
                <a:srgbClr val="66ccff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2070000" cy="4584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962520" y="2362320"/>
            <a:ext cx="363384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ccff"/>
                </a:solidFill>
                <a:latin typeface="Arial Black"/>
              </a:rPr>
              <a:t>Fire Extinguishers</a:t>
            </a:r>
            <a:endParaRPr b="0" lang="en-US" sz="6000" spc="-1" strike="noStrike">
              <a:solidFill>
                <a:srgbClr val="66ccff"/>
              </a:solidFill>
              <a:latin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124080" y="2095560"/>
            <a:ext cx="220824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66ccff"/>
                </a:solidFill>
                <a:latin typeface="Arial Black"/>
              </a:rPr>
              <a:t>PASS</a:t>
            </a:r>
            <a:endParaRPr b="0" lang="en-US" sz="117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en-US" sz="8000" spc="-1" strike="noStrike">
                <a:solidFill>
                  <a:srgbClr val="000000"/>
                </a:solidFill>
                <a:latin typeface="Arial Black"/>
              </a:rPr>
              <a:t>ULL</a:t>
            </a:r>
            <a:endParaRPr b="0" lang="en-US" sz="8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Arial Black"/>
              </a:rPr>
              <a:t>the pin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419720" y="2057400"/>
            <a:ext cx="435600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66ccff"/>
                </a:solidFill>
                <a:latin typeface="Arial Black"/>
              </a:rPr>
              <a:t>PASS</a:t>
            </a:r>
            <a:endParaRPr b="0" lang="en-US" sz="117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8000" spc="-1" strike="noStrike">
                <a:solidFill>
                  <a:srgbClr val="000000"/>
                </a:solidFill>
                <a:latin typeface="Arial Black"/>
              </a:rPr>
              <a:t>IM low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733920" y="2133720"/>
            <a:ext cx="412740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66ccff"/>
                </a:solidFill>
                <a:latin typeface="Arial Black"/>
              </a:rPr>
              <a:t>PASS</a:t>
            </a:r>
            <a:endParaRPr b="0" lang="en-US" sz="117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4647960"/>
            <a:ext cx="716256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000000"/>
                </a:solidFill>
                <a:latin typeface="Arial Black"/>
              </a:rPr>
              <a:t>S</a:t>
            </a:r>
            <a:r>
              <a:rPr b="0" lang="en-US" sz="8000" spc="-1" strike="noStrike">
                <a:solidFill>
                  <a:srgbClr val="000000"/>
                </a:solidFill>
                <a:latin typeface="Arial Black"/>
              </a:rPr>
              <a:t>QUEEZE </a:t>
            </a:r>
            <a:endParaRPr b="0" lang="en-US" sz="8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336564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66ccff"/>
                </a:solidFill>
                <a:latin typeface="Arial Black"/>
              </a:rPr>
              <a:t>PASS</a:t>
            </a:r>
            <a:endParaRPr b="0" lang="en-US" sz="117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00200" y="4571640"/>
            <a:ext cx="60199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 Black"/>
              </a:rPr>
              <a:t>Sweep</a:t>
            </a:r>
            <a:endParaRPr b="0" lang="en-US" sz="1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971800" y="1982880"/>
            <a:ext cx="3289320" cy="32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66ccff"/>
                </a:solidFill>
                <a:latin typeface="Arial Black"/>
              </a:rPr>
              <a:t>Rule # 5</a:t>
            </a:r>
            <a:endParaRPr b="0" lang="en-US" sz="117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1881360"/>
            <a:ext cx="792468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Do not eat or drink in the lab.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66ccff"/>
                </a:solidFill>
                <a:latin typeface="Arial Black"/>
              </a:rPr>
              <a:t>Rule #6 </a:t>
            </a:r>
            <a:endParaRPr b="0" lang="en-US" sz="117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2133720"/>
            <a:ext cx="861048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Point test tubes away from </a:t>
            </a:r>
            <a:r>
              <a:rPr b="1" i="1" lang="en-US" sz="8800" spc="-1" strike="noStrike">
                <a:solidFill>
                  <a:srgbClr val="ff0000"/>
                </a:solidFill>
                <a:latin typeface="Times New Roman"/>
              </a:rPr>
              <a:t>all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people when heating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 Black"/>
              </a:rPr>
              <a:t>Groups of 2-3</a:t>
            </a: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lank piece of paper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ame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ate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erio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ist as many safety rules as you can  (14 total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66ccff"/>
                </a:solidFill>
                <a:latin typeface="Arial Black"/>
              </a:rPr>
              <a:t>Rule #7 </a:t>
            </a:r>
            <a:endParaRPr b="0" lang="en-US" sz="117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2209680"/>
            <a:ext cx="845820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Report all accidents, spills or injuries to your teacher </a:t>
            </a: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immediatel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66ccff"/>
                </a:solidFill>
                <a:latin typeface="Arial Black"/>
              </a:rPr>
              <a:t>Rule #8</a:t>
            </a:r>
            <a:endParaRPr b="0" lang="en-US" sz="117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362320"/>
            <a:ext cx="868680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work only when teacher is present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66ccff"/>
                </a:solidFill>
                <a:latin typeface="Arial Black"/>
              </a:rPr>
              <a:t>Rule # 9</a:t>
            </a:r>
            <a:endParaRPr b="0" lang="en-US" sz="117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2209680"/>
            <a:ext cx="861084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Do not use cracked glassware. Throw it away properly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ccff"/>
                </a:solidFill>
                <a:latin typeface="Arial Black"/>
              </a:rPr>
              <a:t>Rule # 10</a:t>
            </a:r>
            <a:endParaRPr b="0" lang="en-US" sz="96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 Black"/>
              </a:rPr>
              <a:t>No Horseplay or practical jokes</a:t>
            </a: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ccff"/>
                </a:solidFill>
                <a:latin typeface="Arial Black"/>
              </a:rPr>
              <a:t>Rule # 11</a:t>
            </a:r>
            <a:endParaRPr b="0" lang="en-US" sz="96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 Black"/>
              </a:rPr>
              <a:t>Avoid inhaling chemical fumes</a:t>
            </a: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ccff"/>
                </a:solidFill>
                <a:latin typeface="Arial Black"/>
              </a:rPr>
              <a:t>Rule # 12</a:t>
            </a:r>
            <a:endParaRPr b="0" lang="en-US" sz="96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Wear proper lab clothes: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Tie back hair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No open toed shoes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66ccff"/>
                </a:solidFill>
                <a:latin typeface="Arial Black"/>
              </a:rPr>
              <a:t>Rule # 13</a:t>
            </a:r>
            <a:endParaRPr b="0" lang="en-US" sz="117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2000160"/>
            <a:ext cx="815328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Do not throw anything away in sink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66ccff"/>
                </a:solidFill>
                <a:latin typeface="Arial Black"/>
              </a:rPr>
              <a:t>Rule # 14</a:t>
            </a:r>
            <a:endParaRPr b="0" lang="en-US" sz="117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2000160"/>
            <a:ext cx="853416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Always add acid to water 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ccff"/>
                </a:solidFill>
                <a:latin typeface="Arial Black"/>
              </a:rPr>
              <a:t>Location of safety equipment</a:t>
            </a:r>
            <a:endParaRPr b="0" lang="en-US" sz="60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ire extinguishe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oggl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pr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afety showe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ire blanke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irst Ai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SDS sheet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cubato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roken glass box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mergency cut off for power/gas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6 gas valv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 Black"/>
              </a:rPr>
              <a:t>Equipment</a:t>
            </a: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. Petri dis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. Beak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3. Watch glas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4. Erlenmeyer Flask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5. Graduated Cylinder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6. Funnel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7. Test Tube rack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ccff"/>
                </a:solidFill>
                <a:latin typeface="Arial Black"/>
              </a:rPr>
              <a:t>Rule # 1</a:t>
            </a:r>
            <a:endParaRPr b="0" lang="en-US" sz="96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 Black"/>
              </a:rPr>
              <a:t>Do only the experiments assigned </a:t>
            </a: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 Black"/>
              </a:rPr>
              <a:t>Equipment</a:t>
            </a: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. cork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9. Rubber stopper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0. Test-tube hold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1. Balanc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2. Microscop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3. Coverslip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4. Scalp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 Black"/>
              </a:rPr>
              <a:t>Equipment</a:t>
            </a: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5. Forcep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6. Prob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7. Inoculating Loop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8. Pipett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9. Pasteur Pipett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0. Stirring ro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1. Spatul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 Black"/>
              </a:rPr>
              <a:t>Equipment</a:t>
            </a:r>
            <a:endParaRPr b="0" lang="en-US" sz="44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2. Thermomet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3. Dropp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4. Strik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5. Hot Plat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6. Mortar and pestl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7. Bunsen Burn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8. Ring Stan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ccff"/>
                </a:solidFill>
                <a:latin typeface="Arial Black"/>
              </a:rPr>
              <a:t>Rule # 2</a:t>
            </a:r>
            <a:endParaRPr b="0" lang="en-US" sz="96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 Black"/>
              </a:rPr>
              <a:t>Read the lab procedures FIRST</a:t>
            </a: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ccff"/>
                </a:solidFill>
                <a:latin typeface="Arial Black"/>
              </a:rPr>
              <a:t>Rule # 3</a:t>
            </a:r>
            <a:endParaRPr b="0" lang="en-US" sz="9600" spc="-1" strike="noStrike">
              <a:solidFill>
                <a:srgbClr val="66cc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 Black"/>
              </a:rPr>
              <a:t>Use the safety equipment at all times</a:t>
            </a: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ccff"/>
                </a:solidFill>
                <a:latin typeface="Arial Black"/>
              </a:rPr>
              <a:t>Safety Goggles</a:t>
            </a:r>
            <a:endParaRPr b="0" lang="en-US" sz="6600" spc="-1" strike="noStrike">
              <a:solidFill>
                <a:srgbClr val="66ccff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90520" y="2048040"/>
            <a:ext cx="671832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ccff"/>
                </a:solidFill>
                <a:latin typeface="Arial Black"/>
              </a:rPr>
              <a:t>Acid Damage</a:t>
            </a:r>
            <a:endParaRPr b="0" lang="en-US" sz="7200" spc="-1" strike="noStrike">
              <a:solidFill>
                <a:srgbClr val="66ccff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1360" y="2023920"/>
            <a:ext cx="4432320" cy="2934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0" y="2844720"/>
            <a:ext cx="4432320" cy="3006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629240" y="2028960"/>
            <a:ext cx="0" cy="3733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ccff"/>
                </a:solidFill>
                <a:latin typeface="Arial Black"/>
              </a:rPr>
              <a:t>Base Damage</a:t>
            </a:r>
            <a:endParaRPr b="0" lang="en-US" sz="7200" spc="-1" strike="noStrike">
              <a:solidFill>
                <a:srgbClr val="66ccff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2009880"/>
            <a:ext cx="4127400" cy="3154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114800" y="2792520"/>
            <a:ext cx="4660920" cy="36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ccff"/>
                </a:solidFill>
                <a:latin typeface="Arial Black"/>
              </a:rPr>
              <a:t>Flying Glass</a:t>
            </a:r>
            <a:endParaRPr b="0" lang="en-US" sz="7200" spc="-1" strike="noStrike">
              <a:solidFill>
                <a:srgbClr val="66ccff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4203720" cy="3602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419720" y="2565360"/>
            <a:ext cx="435600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4T21:40:40Z</dcterms:created>
  <dc:creator>GISD</dc:creator>
  <dc:description/>
  <dc:language>en-US</dc:language>
  <cp:lastModifiedBy> </cp:lastModifiedBy>
  <dcterms:modified xsi:type="dcterms:W3CDTF">2008-08-24T19:47:28Z</dcterms:modified>
  <cp:revision>15</cp:revision>
  <dc:subject/>
  <dc:title>LAB R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42554252</vt:r8>
  </property>
  <property fmtid="{D5CDD505-2E9C-101B-9397-08002B2CF9AE}" pid="3" name="_AuthorEmail">
    <vt:lpwstr>mayleej@cfbisd.edu</vt:lpwstr>
  </property>
  <property fmtid="{D5CDD505-2E9C-101B-9397-08002B2CF9AE}" pid="4" name="_AuthorEmailDisplayName">
    <vt:lpwstr>Maylee, Josh</vt:lpwstr>
  </property>
  <property fmtid="{D5CDD505-2E9C-101B-9397-08002B2CF9AE}" pid="5" name="_EmailSubject">
    <vt:lpwstr>safety and equipment ppt.</vt:lpwstr>
  </property>
</Properties>
</file>